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84A-5EA2-4758-9775-B674F19B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CB4-946F-4E3A-90CF-35AE7E5B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323-B898-4A82-A3F8-ED9C7BFB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BAC-CDC7-461D-8A63-A411936C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F76-BE90-4A9F-ADD0-3213C772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83C-17D2-4E1D-B0AE-DEBBF27E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48F-E796-4FE5-9B50-F350024D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A52-8859-461D-A99E-4848C8D6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840-DC7C-410D-A099-54140A82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16E-D61E-434C-9B64-09852B2B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AF1-AD27-49E0-BEC6-1E258B6D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B17-FD86-4391-B018-8962D3FF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98F0-43A5-4AB7-AFD5-7B60CBB12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380880"/>
            <a:ext cx="60962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62320" y="457200"/>
            <a:ext cx="49244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5f5f5f"/>
                  </a:outerShdw>
                </a:effectLst>
                <a:latin typeface="BlackChancery"/>
              </a:rPr>
              <a:t>Th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5f5f5f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5f5f5f"/>
                  </a:outerShdw>
                </a:effectLst>
                <a:latin typeface="BlackChancery"/>
              </a:rPr>
              <a:t>Antebellu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5f5f5f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5f5f5f"/>
                  </a:outerShdw>
                </a:effectLst>
                <a:latin typeface="BlackChancery"/>
              </a:rPr>
              <a:t>Sou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5f5f5f"/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240" y="5410080"/>
            <a:ext cx="716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USH Chapter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g Cotton / Slave Tra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10-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’s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ave Community / Resistance &amp; Revolt Pages 321-3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families and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Nat Turner’s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ern Social Structure / Defense of Slave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ages 328-3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8487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oci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Planter E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lavery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to Terms with the New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mig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18-4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 for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h Immigration vs. German 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Machines / Revivalis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33-4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f Machine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the Reform M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, What, Why,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ovements and Ide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38-4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son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/ Adv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opia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, 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, Why, Where &amp;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lition / Women’s Righ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42-4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tion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8:03:20Z</dcterms:created>
  <dc:creator>School District U46</dc:creator>
  <dc:description/>
  <dc:language>en-US</dc:language>
  <cp:lastModifiedBy>School District U46</cp:lastModifiedBy>
  <dcterms:modified xsi:type="dcterms:W3CDTF">2010-10-02T18:03:37Z</dcterms:modified>
  <cp:revision>1</cp:revision>
  <dc:subject/>
  <dc:title>Slide 1</dc:title>
</cp:coreProperties>
</file>